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FE10-0D0E-450D-803F-95BF37291B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1F3D-CB3D-4C43-AFE6-D37DC88C48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663-8B41-4D96-A37E-0F914856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98F5-1D12-4CD2-83C7-4920D562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57D-8FC7-45AA-97EB-EA5DB43E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D11-69F0-4877-845C-C0709F1C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F4B-5A7E-4392-8D53-70AD6BB7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C3C9-195F-45D6-B81F-677BD6A6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62C1-314A-4707-AC1C-337097C2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C1B-75FD-496B-A952-7A695549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5DE-3BAA-47D3-99A8-D5AB03B5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961-12C7-4733-94FC-07EDC2FE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F5F-C22A-49E6-B8A9-CD17CE70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4234-FF64-4D09-A87F-EF32B45A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5564-E459-4FB2-92A9-01D8D1D5DB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0961-DD3F-4DF6-9E97-DCE51B95B7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августа 202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0306-8D32-4A0D-9009-38B3C42952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 на 1 августа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2021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312840" y="914400"/>
          <a:ext cx="8778600" cy="628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914400"/>
                    <a:ext cx="877860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1-08-02T06:45:36Z</dcterms:modified>
  <cp:revision>129</cp:revision>
  <dc:subject/>
  <dc:title>Презентация PowerPoint</dc:title>
</cp:coreProperties>
</file>